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FAA-21E1-416D-9FDC-011F069D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D7D-CCD6-4077-B011-57FEC39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12B79-E91F-40AE-805C-31F0E4EC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D52DF-93D6-41E5-916B-D7964E2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A075D-887B-47F6-85DA-5377FDBA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49492-8423-4F9D-A236-F55AE15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14627-9C6D-4942-8C62-D0D99F5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F55EA-9466-474E-B615-714439F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6D873-AB78-4239-81AC-E341D8B7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9C3B6-B846-4DDF-BDFF-E0FCE0DF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38857-6EF4-42A7-880E-9CDA75F5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27B4E-5D25-4D44-8DEE-B99E2167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034-9389-46D9-8888-B27BCF00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2F5DC-4A60-40D1-83D5-DA68FA4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70C3D-6812-4AD1-8360-628FAEF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3B5E7-3FA0-4404-BEDA-F1FC9C52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293AD-79B7-439E-8C5E-24095A7A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E68DC-75CF-4B8D-8BB8-D2E23FF4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EE89C-067A-4005-AC07-ED733076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BDDDD-12F4-455B-9082-AB8001C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8BEB5-B428-4E50-8097-E12CE09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41CE4-E121-4AF6-86EF-FEDA1EEB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976C-7944-4146-A75E-13EE3B15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7F1-DDE0-46E9-812C-C373E5AE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1E999-9C5F-4F03-A7C5-9C4E470E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53F17-08E7-43B8-970D-EFE553E0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7325-FF8E-4FA6-9E40-267E7544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57EB8-8546-4935-B684-2772FD5F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ABE56-B0A5-4BA4-82F0-B687AB1E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04054-35F4-4242-B1BA-EFB46AEF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5B01F-5150-4709-920F-89125D33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3341E-4E73-450E-9CDF-3092C95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B364A-397B-4BA2-9A19-AACBCFF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B05C2-4237-4FA0-BA89-8124E211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749D-78F6-41D3-B7C8-DC3FCB6E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351E2-052A-4619-9829-ADB0110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2785B-2C7B-48BF-8737-714CD62F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37662-C61C-4954-B8EC-C3A7433B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9DD4A-F5D9-493B-887E-18C661D1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1523-3BC1-42E5-BA40-370691F8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B6345-5698-44A3-B51A-857E935D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4A5EE-870C-4E39-B297-BC8DB2CC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08A14-16C4-440A-9792-9EA125F9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1E488-8617-481F-BB8E-EA1328A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0B260-74DD-42C4-A114-5A15AA5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C166-980F-49A4-9B67-5ACA5487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8BD07-A066-4962-A8DD-D9E7CCE0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6A632-A595-44E7-B7AB-511E7C0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397E4-4DC1-4C5F-BF69-8EE9DBB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D6274-A473-4158-B0B3-38A68D12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EDFC3-9944-495E-9A2F-C883A05F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8EA1D-B48C-4895-8CF3-D24EA00F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A1D8D-B8B4-4C29-B112-1E6AAFB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D1FDF-3F51-43AB-B4B2-43813555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84A13-D987-4782-9951-89A43110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AA599-3704-466C-B838-2377A1C7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EA0-1503-4BE5-A1CF-D80F250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9A637-6BB0-44A0-B3D0-E787EAFE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A29E4-C9DE-42AA-BE50-608052D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AA719-32E9-4024-B9D9-9C3B38B2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46A94-9561-417A-A33C-1F2D269D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9F04A-6220-4917-95EF-0FF80C23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7C0DF-1989-496F-B8FB-BC933776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BAD67-C13E-4CCD-B28D-82EE08A9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43B99-2D49-4397-990F-12E7925E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74A68-3649-4803-B636-0BB6BA4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6C060-AD8D-4CA9-A5AD-C56390D2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E7F4-89C3-4502-A051-CD8C02ED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D251C-65E3-4576-A147-CBA0E917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FF65D-6423-4427-AB22-192AE0D8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BF3C7-5AD9-4C13-B399-E7E3EE79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E724F-A4D3-4879-9C3E-87C2D81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ACAA9-0F9E-4237-85A5-F4D695E4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4605B-32C9-4822-9D94-C9583D7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11CFC-80B6-44BD-B777-CEB536CA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7ECF4-F190-48A1-8D03-B988C1C7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5EF9B-EEA5-4878-8BD3-6331EA1D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599A5-6642-40E0-B81B-500244F7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66F-FCA7-4ACC-8012-FEE08F2B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04691-9ADD-4664-A841-DF64FD20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B5FB6-C8C9-48E9-B3BE-6C0CFF1E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8606E-9140-488F-BCAF-794AB9F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C09B1-97A0-40DE-B736-B3945948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64F82-1C01-4E90-8CB9-AF1CAB0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DBE24-6FAD-4ED4-9800-F9CBD84C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59DFE-2DDA-4009-A7C7-B5C96D29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229AC-39F3-433C-B796-507B43E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9BE1D-C533-446C-B37A-B3D4F526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5B0A7-18D3-407F-8C50-21332F9C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CA0-E225-4AA6-94DA-5131759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D15468-8950-4B51-8464-945C108E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7BDA1-4147-4FBC-914B-80CAA2EE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AB848-237D-40AE-A274-AF17E54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13F12-FCB5-4A15-A4CA-15C12BD9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4DA30-157D-4865-811C-487C9098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A0F24-1269-40A0-8535-159E77AB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EF5D3-BAE1-4840-B5BB-87FCD6A8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9A0D5-FF59-4139-840E-7805E7E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E12B4-7BED-4079-A814-6A072A3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75A34-2520-4280-9C5F-8DF0C83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F7E6-2C37-4DCB-8C48-155DB33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DA2D4-B269-4F95-B47D-603E448B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5A42A-88E0-46FD-9295-0D94FB30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90954-FE6B-4C2F-9F7A-6C7A645D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80B51-D7E5-4B0C-B251-1FC0E01C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E14D9-C296-47BC-BBC4-7E6F4BCE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E29E0-A581-44DD-BA5F-4331BFB5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00627-C492-4605-AD65-29B34B6C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5BF79-1F74-4406-AABE-8654836A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4A236-C502-42CD-B181-98E006BD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B6633-DFFB-40C0-81B1-FA00FC7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C14-F80B-4A69-BDB8-C1167C3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819E-A446-4282-A383-09318798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09B0C-0B7F-4928-B290-9667789C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38275-1089-4617-986E-7BB9FBE5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5545A-B0B6-477D-A5A9-12ECB63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6A660-D3D1-4870-832D-E54C1D1A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4DC4F-6AD2-475F-B1C7-9B17A979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BE465-DA59-4CA0-A752-9E332111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947F0-1092-4211-A702-4C17790C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18F2C-FC10-44F1-B3AC-192602D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DBB96-AF58-4437-B053-E60476F9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79AA2-7B46-4601-847A-CC959EDA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3159-2CF7-4B08-BA83-4DA46FD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245946-5A44-44D8-AEEC-833EB401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27B46-C93D-4E75-AD06-2E65C384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E660E-BE7B-43BF-8161-8463F5D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949C57-9F79-4F75-BAFC-0BDFB3A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FCB91-1D3C-4947-A4A2-18F6343A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AF322-B6CF-4B82-B8E0-1B57F434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5A173-3188-44CB-977A-8D289D55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F6DEBC-6E6A-4307-922B-88475DF7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F7B0C-AFA6-410C-B5C4-CCE0C182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51B32-A583-4D77-AC4A-3224859E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8339-136A-4551-9EC5-A2759A7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BD2254-A9C1-4D2E-A52B-07697FEA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82EBB-EF1A-4AFC-98C7-20AFF9F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B55D7-52DC-4197-BF03-CC5808C9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DEE6A-92A2-44ED-8070-9B2B1F31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0BC0D-E1C6-4E8B-B201-36F89CF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822DF-5EFC-435A-9BBC-7B9E93F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C0DDE-0CFF-472A-AD1D-CDF1075B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80854-613F-4F34-ABEA-EDC6E68B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879C4-F590-4BF5-A901-E343C81E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D503F-D224-443D-A723-CA1C7A9E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71B2-622B-4117-A5DB-D283570D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DFECE-AB3C-4359-8C6F-F90F1164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7EB67A-8C60-4427-B972-EF20D863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C34A13-2704-46D2-AD24-3E2B9DAB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1B399-599D-483E-9BCB-49F3845D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2D190-D3D8-46AA-9DBC-FC6BBD79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5212D-BE8F-4224-B039-B8D1EA4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1447A-ADA1-4D73-8165-727E6474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FA593-8D50-4D19-9C65-FB046A7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40D2F-151F-4EC9-A62D-A337FE2E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3B5A2-4745-4828-83B2-2CCF1699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3923-7410-46DA-885C-B30D3A37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D22DD-334F-4B99-8C6A-3C7C9F38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71F6C-10C8-4CB8-AC9C-9848CDC0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17D7E-5B05-4BDC-A762-4E33C1DC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018C0-CECB-4F0C-AC12-FAB541FD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9BFF9-18BE-4869-834F-7547CDF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C47BF-1047-4889-A9EF-0E2C550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F3A2EC-8160-4F34-89DC-D0A25DC4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36053-88A5-4EFD-99DA-0371B67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334B9-B9CB-4963-91FC-B146408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F96FD1-DEBA-47BB-90E9-F885B05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A84B-441F-4AC7-9CC2-55E82448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A1C39-BB8A-434A-A3C9-42AC554A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9F6A21-A16D-4322-9998-877F3933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6AB9F3-2F1B-456E-B1B6-A55FC57C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E8A3-F6A0-4F1B-AA31-66A4E05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8BE7-DB43-431D-BA03-CAA06FD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50F8-975C-4617-96C1-4D72FC2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4E7F-DAB8-491F-9057-EF5C1A3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DB3-8939-4018-83C4-A9E36165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251F-5EFB-4A76-8E63-92246130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7E97-885F-4815-A36C-614CFA14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F9F6-FB44-4A2D-AC22-D57BE194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18A3-CB24-463C-A1C3-1615E60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5838-FE55-4D2C-A5EE-1CCF261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5F9A-2142-48AE-A8B7-3E53BF4B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C929-B57F-467E-B28D-9F90B4C2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490E4-484A-4338-99FE-1DDD6B3A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6C38-5ED5-4AE5-8A28-DD7FBF9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0FEC-BCDA-4C95-A2E3-DA25F36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F64-3D9B-4B81-B2E4-6283204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3205-15EF-484D-894D-92E856AE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9BA7-0218-43D8-A1CC-2AB537C8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E5F35-A0B9-4EC7-ACEB-5ACE67F6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9F65-5F45-46A9-9E36-44B10D1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34BD-C219-48DD-8E41-4ABB9101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FC63-2693-4D51-8310-60A114C9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99A2-2EDA-4E07-AEC2-D8C419E1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1D92-0CE5-4736-A79A-10AB7285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E57F-08AD-4432-8DCD-4EDB860D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5A2C-4718-4099-A829-C86D8974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02C-E9B3-49D6-B823-937E594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30E25-6F66-4F63-B546-52CF3F95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4F0EB-300C-4284-81BA-D9BBF62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D90E0-90F0-4B21-BBAD-E714F0D7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1721-22AA-4086-A799-D625EF1A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0F82C-3865-445E-88D9-3D537DEC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A1584-A65F-4562-A7ED-8205E31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5D79-9F4E-485E-B716-23A4929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9645-9A98-40CA-B04E-0782D02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4F6E-9245-4F49-B7D8-71BF6A17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36A30-BAAF-45EF-8110-348C7928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83F-7C9F-480D-8CDB-1887B11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AFFD4-BC35-4669-A8ED-C66945DC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56EE-B6E2-4A2C-A120-0B6DF3B6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9C402-C36B-43FE-A7D2-D679F018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202D0-12F4-40C7-90C8-001ECA23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C636-679B-4E4F-8E7E-9A0304B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0BB46-9F5F-4A43-B518-BCB020DA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9AFE-4EF5-4E4B-A8B6-5093DF9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22BD-6077-47B6-8224-F33ADEF1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D6CA-9CED-4BCE-BB6E-291806F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296E5-670D-49ED-9BA3-98E6060E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B44-D0A2-41F6-A3F9-255BA63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9CAA-AAFB-4369-940B-F7D543A4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C9FF4-E3B7-42C1-9A98-BC1C6D2C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F4EC2-6D6A-47A0-8DC6-09DFD110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2988B-E608-4952-9075-5E79F453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3CECB-DEBC-4B12-B64D-9BAB9F3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B7517-4312-4063-A9A6-B9E27367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6CC12-CFE3-4BBC-848B-681CFD5A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EB1EC-26DD-42CD-B704-94BF73E3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878B-A876-4D4C-9EDE-677B9169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4692-57E4-4C58-A3E6-F6207A3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E00-8293-470C-9123-FCC4610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46C3-344F-4522-BDC9-A876E541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A801-D203-4C63-9149-5E602F09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419CF-766B-445D-8DF7-2091E487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10E7B-B3E0-4C03-95FF-2145D112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94FB-4770-45F3-A065-06A66D9A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6EF5-73BF-45AA-B61B-154B7339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40C4D-5C09-42EC-AF20-FEB0488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DC5A3-85C2-4417-AA1A-1CE23FD1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EF63D-D86D-48F2-9131-BDB6201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A6DB2-41F1-490B-A529-FA66F91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C81-DBCE-47CA-BC98-50F8EBC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891D-E89E-4EEE-B99C-665476A0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7F15D-3AB9-4E0D-86AC-8489B6D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2E3A3-2F4C-435F-89AA-1BF21B9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737F8-F7E9-4BF2-ADD9-4492C6A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26DDC-F5A5-4416-9106-9B34D39A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D931C-622D-4858-AB0E-E339A9EB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EB454-F554-4D65-AD04-43A59DCD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E3E3F-D35B-4B12-BB50-F62E0BC0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BAF6F-0C1F-4803-8FB5-E9EE4180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F956A-FCB6-4468-860D-B4B8AF5F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0ED-A447-457E-9870-4614435BAD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6C0F-20CD-4AEC-93EE-9536D4A35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942A-F0DC-4964-B127-3E0E2FBD986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8A96-289C-4034-B6F1-CC762A1F70A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6AF2-4AD8-4AA4-AF57-107AEFE4228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1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0360-1B99-4C67-9149-CFCF0BBFB1F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4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4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66BC-7D7C-4984-93AE-0661B5EA311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6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E67D-9668-4CCC-8AE7-5FCBB886EB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1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1849-2F01-4686-90A0-9B2D0ACF3B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5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5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5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6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6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2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3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13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6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4D87-2931-4952-95B6-460883CFCE1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22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23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23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23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23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24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4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4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5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5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25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26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27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7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27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28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28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29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30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0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0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0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31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31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31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1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1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2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2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2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32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33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3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3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133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33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4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34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4528-0F57-41B9-BF5E-1803AF61EFA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718b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6F25-CECD-4380-9EA9-B160563B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9AF5-50D9-486E-90F1-C43C074B2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BE8F-7771-4239-BADB-270729F87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3944-3D5F-4705-9A7D-4220A13989A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D9DD-200C-4B3C-8B00-D5CC7672618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B468-07E5-4F9F-821F-C8FA5F5516B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7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7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8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9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B836-FA7F-4FDF-9A81-1AAA2772A9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718b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6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FF7-0927-4E43-BFB2-BD6A77FB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BECA-DC0F-486F-9D24-DA4F7B99C46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92B0-48CA-4123-A46E-02B069B243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lagspot.net/images/e/eu-eun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1" name="Picture 11" descr="Germany_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Cultural diversity in German speaking count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ig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 rural-urban in internationa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4" name="Text Box 9"/>
          <p:cNvSpPr/>
          <p:nvPr/>
        </p:nvSpPr>
        <p:spPr>
          <a:xfrm>
            <a:off x="6095880" y="5867280"/>
            <a:ext cx="29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b"/>
                </a:solidFill>
                <a:latin typeface="Arial"/>
              </a:rPr>
              <a:t>Jason Knapczyk Quarter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8" name="Title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37880" y="2133720"/>
            <a:ext cx="89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www.genealogyforum.com/gfaol/resource/German/migratio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"/>
          <p:cNvSpPr/>
          <p:nvPr/>
        </p:nvSpPr>
        <p:spPr>
          <a:xfrm>
            <a:off x="1117080" y="2971800"/>
            <a:ext cx="70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www.progenealogists.com/germanemigration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1" name=""/>
          <p:cNvSpPr/>
          <p:nvPr/>
        </p:nvSpPr>
        <p:spPr>
          <a:xfrm>
            <a:off x="1924560" y="3886200"/>
            <a:ext cx="56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www.google.com/imghp?hl=en&amp;tab=w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"/>
          <p:cNvSpPr/>
          <p:nvPr/>
        </p:nvSpPr>
        <p:spPr>
          <a:xfrm>
            <a:off x="1186920" y="4648320"/>
            <a:ext cx="73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http://focus-migration.hwwi.de/Germany.1509.0.html?&amp;L=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5" name="Picture 5" descr="MassLaws"/>
          <p:cNvPicPr/>
          <p:nvPr/>
        </p:nvPicPr>
        <p:blipFill>
          <a:blip r:embed="rId1"/>
          <a:stretch/>
        </p:blipFill>
        <p:spPr>
          <a:xfrm>
            <a:off x="5181480" y="1905120"/>
            <a:ext cx="3002040" cy="4343400"/>
          </a:xfrm>
          <a:prstGeom prst="rect">
            <a:avLst/>
          </a:prstGeom>
          <a:ln w="0">
            <a:noFill/>
          </a:ln>
        </p:spPr>
      </p:pic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4f819"/>
                </a:solidFill>
                <a:uFillTx/>
                <a:latin typeface="Tahoma"/>
              </a:rPr>
              <a:t>Germany: Immigration in Transi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ermany has an ongoing need for immigrants to bolster economic development and to maintain a dynamic workfor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874080" y="2290680"/>
            <a:ext cx="41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n immigration law pas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oth houses of the Ger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arliament and was sign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by the president in Mar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00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Text Box 11"/>
          <p:cNvSpPr/>
          <p:nvPr/>
        </p:nvSpPr>
        <p:spPr>
          <a:xfrm>
            <a:off x="890280" y="4235400"/>
            <a:ext cx="448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e law took affect in Janu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f 2005. This set the stage f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ow Germany will deal wit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labor migration, newcom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nd resident migrants in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years to com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718b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Germany: Immigration in Transition                      Cont.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21" name="Text Box 4"/>
          <p:cNvSpPr/>
          <p:nvPr/>
        </p:nvSpPr>
        <p:spPr>
          <a:xfrm>
            <a:off x="859680" y="1676520"/>
            <a:ext cx="736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Many business, labor, and religious organiz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welcomed the 2002 effort to pass an immi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la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2" name="Picture 6" descr="[European Union flag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6064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1623" name="TextBox 7"/>
          <p:cNvSpPr/>
          <p:nvPr/>
        </p:nvSpPr>
        <p:spPr>
          <a:xfrm>
            <a:off x="899280" y="2971800"/>
            <a:ext cx="85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anwhile the European Union let 10 countries in. Th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mised new challenges for northern Europe’s economi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werhou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TextBox 8"/>
          <p:cNvSpPr/>
          <p:nvPr/>
        </p:nvSpPr>
        <p:spPr>
          <a:xfrm>
            <a:off x="983160" y="4343400"/>
            <a:ext cx="361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hen large # of Polis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orkers were impor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 work in the min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ector in the 19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entu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Title 1" descr=""/>
          <p:cNvPicPr/>
          <p:nvPr/>
        </p:nvPicPr>
        <p:blipFill>
          <a:blip r:embed="rId1"/>
          <a:stretch/>
        </p:blipFill>
        <p:spPr>
          <a:xfrm>
            <a:off x="414360" y="36360"/>
            <a:ext cx="8437680" cy="1506600"/>
          </a:xfrm>
          <a:prstGeom prst="rect">
            <a:avLst/>
          </a:prstGeom>
          <a:ln w="0">
            <a:noFill/>
          </a:ln>
        </p:spPr>
      </p:pic>
      <p:sp>
        <p:nvSpPr>
          <p:cNvPr id="1626" name="TextBox 3"/>
          <p:cNvSpPr/>
          <p:nvPr/>
        </p:nvSpPr>
        <p:spPr>
          <a:xfrm>
            <a:off x="339840" y="1523880"/>
            <a:ext cx="880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Over seven million Germans came to America. The first migration to America was to a city named Germantown in Pennsylvania. Althoug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religious persecution 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a main reason for thei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immigration it wasn’t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only reason why they le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for America. The Thir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Year War (1618-1648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brought devastat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effects on the econo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f819"/>
                </a:solidFill>
                <a:latin typeface="Tahoma"/>
              </a:rPr>
              <a:t>and society.</a:t>
            </a:r>
            <a:r>
              <a:rPr b="0" lang="en-US" sz="2400" spc="-1" strike="noStrike">
                <a:solidFill>
                  <a:srgbClr val="14f81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581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2"/>
          <a:stretch/>
        </p:blipFill>
        <p:spPr>
          <a:xfrm>
            <a:off x="201600" y="171360"/>
            <a:ext cx="8856720" cy="1255680"/>
          </a:xfrm>
          <a:prstGeom prst="rect">
            <a:avLst/>
          </a:prstGeom>
          <a:ln w="0">
            <a:noFill/>
          </a:ln>
        </p:spPr>
      </p:pic>
      <p:sp>
        <p:nvSpPr>
          <p:cNvPr id="1629" name="TextBox 3"/>
          <p:cNvSpPr/>
          <p:nvPr/>
        </p:nvSpPr>
        <p:spPr>
          <a:xfrm>
            <a:off x="-216000" y="1752480"/>
            <a:ext cx="8769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in the winter of 1708-09 Europe experienced the wo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ter ever.  Germans sailed to New York to start fresh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led in the colony of Newburg along the Hudson r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d spread back to Germ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American lands where ve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rtile. That made more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Germans come to New Y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ettled in colonie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Jersey, Maryland, and then 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manna in Virginia. The Indi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ks made the Germans buil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gger communities and move i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es like Philadelphia and Baltim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0" name="" descr=""/>
          <p:cNvPicPr/>
          <p:nvPr/>
        </p:nvPicPr>
        <p:blipFill>
          <a:blip r:embed="rId3"/>
          <a:stretch/>
        </p:blipFill>
        <p:spPr>
          <a:xfrm>
            <a:off x="4952880" y="2971800"/>
            <a:ext cx="3810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itle 1" descr=""/>
          <p:cNvPicPr/>
          <p:nvPr/>
        </p:nvPicPr>
        <p:blipFill>
          <a:blip r:embed="rId1"/>
          <a:stretch/>
        </p:blipFill>
        <p:spPr>
          <a:xfrm>
            <a:off x="201600" y="171360"/>
            <a:ext cx="8856720" cy="12556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3"/>
          <p:cNvSpPr/>
          <p:nvPr/>
        </p:nvSpPr>
        <p:spPr>
          <a:xfrm>
            <a:off x="-112680" y="1600200"/>
            <a:ext cx="943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By 1854 New York became the main port of entry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Germans. By 1854 a ¼ of a million Germans had arri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In America. In 1870 the Germ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empire was born from 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of states and kingdo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Germans would leave ag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because of war and grow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taxes. The immigration began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1880 with 200,000 leaving. Swis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Germans began leaving in large #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starting in 1881-188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3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3345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Title 1" descr=""/>
          <p:cNvPicPr/>
          <p:nvPr/>
        </p:nvPicPr>
        <p:blipFill>
          <a:blip r:embed="rId1"/>
          <a:stretch/>
        </p:blipFill>
        <p:spPr>
          <a:xfrm>
            <a:off x="433440" y="-30240"/>
            <a:ext cx="8418600" cy="16272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3"/>
          <p:cNvSpPr/>
          <p:nvPr/>
        </p:nvSpPr>
        <p:spPr>
          <a:xfrm>
            <a:off x="554040" y="1676520"/>
            <a:ext cx="821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was mainly a country of emigration in the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ury and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lf of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. Since the 1950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many has been an import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ean destination for migran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ssue of immigrant integ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lso become highly topical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years. The September 11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1 attacks brought ? about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and the integr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lim immigr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2"/>
          <a:stretch/>
        </p:blipFill>
        <p:spPr>
          <a:xfrm>
            <a:off x="5638680" y="236232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Title 1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-186840" y="1676520"/>
            <a:ext cx="81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854 how many Germans had arrived in Americ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"/>
          <p:cNvSpPr/>
          <p:nvPr/>
        </p:nvSpPr>
        <p:spPr>
          <a:xfrm>
            <a:off x="762120" y="243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533520" y="2286000"/>
            <a:ext cx="237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illion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¼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½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"/>
          <p:cNvSpPr/>
          <p:nvPr/>
        </p:nvSpPr>
        <p:spPr>
          <a:xfrm>
            <a:off x="-206280" y="4191120"/>
            <a:ext cx="87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hen was the Immigration law signed by the President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608760" y="4876920"/>
            <a:ext cx="14497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3" name="Title 1" descr=""/>
          <p:cNvPicPr/>
          <p:nvPr/>
        </p:nvPicPr>
        <p:blipFill>
          <a:blip r:embed="rId1"/>
          <a:stretch/>
        </p:blipFill>
        <p:spPr>
          <a:xfrm>
            <a:off x="-201600" y="-334800"/>
            <a:ext cx="8894880" cy="1858680"/>
          </a:xfrm>
          <a:prstGeom prst="rect">
            <a:avLst/>
          </a:prstGeom>
          <a:ln w="0">
            <a:noFill/>
          </a:ln>
        </p:spPr>
      </p:pic>
      <p:sp>
        <p:nvSpPr>
          <p:cNvPr id="1644" name=""/>
          <p:cNvSpPr/>
          <p:nvPr/>
        </p:nvSpPr>
        <p:spPr>
          <a:xfrm>
            <a:off x="39960" y="20588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By 1854 how many Germans had arrived in Americ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"/>
          <p:cNvSpPr/>
          <p:nvPr/>
        </p:nvSpPr>
        <p:spPr>
          <a:xfrm>
            <a:off x="1358640" y="2971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B) ¼ mill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"/>
          <p:cNvSpPr/>
          <p:nvPr/>
        </p:nvSpPr>
        <p:spPr>
          <a:xfrm>
            <a:off x="12240" y="3962520"/>
            <a:ext cx="85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When was the Immigration law signed by the Presid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"/>
          <p:cNvSpPr/>
          <p:nvPr/>
        </p:nvSpPr>
        <p:spPr>
          <a:xfrm>
            <a:off x="1428120" y="487692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: D) 200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32:48Z</dcterms:created>
  <dc:creator>SCSadmin</dc:creator>
  <dc:description/>
  <dc:language>en-US</dc:language>
  <cp:lastModifiedBy>SCSadmin</cp:lastModifiedBy>
  <dcterms:modified xsi:type="dcterms:W3CDTF">2011-09-01T14:00:49Z</dcterms:modified>
  <cp:revision>14</cp:revision>
  <dc:subject/>
  <dc:title>Slide 1</dc:title>
</cp:coreProperties>
</file>